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BWDSB model here – also refer to EduGAINS  board supports – Adobe Presenters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occurs over time (5 months for us with fractions) and is modified to align with the teachers’ needs and fi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xt from TMERC Collaborative Action Research Digital Paper (www.tmerc.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AER_Trent_Benefits of Professional Learning (1:45 min)  - benefits of same lesson in different classrooms and also focus on one content area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cond video Slow it down (3:25 – 5:15 – play this by 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key characteristics of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ly not classroom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to overcome some of the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really collaborati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: Ideally we want our Professional Development opportunities to be powerful enough that they make us think, question, want to learn more and change our prac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that this Collaborative Research Project was that kind of P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453D-DE21-410F-98B5-D98379C6187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FCB-E6D8-4569-8BE1-EA2FEB8887F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BB25-CB46-469A-8B05-D50916F89A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5273-2655-4DFB-8038-F9EDBA538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3051-9288-49E8-A5E6-DEA05827D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3840-B4C7-4D0D-822D-64D240ABA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618A-9C76-4A7D-AE2A-77C9B9121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FDBF-1B50-4E15-8595-A47DFA2ED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4B43-6F1D-49DE-94CF-C5DAEFA8E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06F9-197A-44D5-93FC-205EB9757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D044-BD56-464E-8B51-E7AFB1351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A697-F6A0-4769-B930-6901CF752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8659-E2F2-4DC4-A117-95CCE66C3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E3D0-90F3-4892-8B1B-AD01ED09D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3E03-525A-43E8-99E6-E8A0C5F87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277-180C-4D99-8215-648993A7C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ssonresearch.net/DeeperLookatLS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3E42-81EB-4A88-B921-E3D1A8EFC3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490d8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est thinking at this point and time about professional lear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40388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urrent Professional Learning Mode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inars/on-lin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IL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ition PL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796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monstration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aborative Assessment/Resourc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48AA-EF83-41A4-AFF2-A607601349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agram up Inquiry (and research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llaborative Action Resear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477-0D8C-432C-8837-9ACF94FD35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Digital Papers - TMERC.ca - Google Chrome"/>
          <p:cNvPicPr/>
          <p:nvPr/>
        </p:nvPicPr>
        <p:blipFill>
          <a:blip r:embed="rId1"/>
          <a:srcRect l="20343" t="7778" r="20343" b="-509"/>
          <a:stretch/>
        </p:blipFill>
        <p:spPr>
          <a:xfrm>
            <a:off x="2819520" y="2057400"/>
            <a:ext cx="4203720" cy="3562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57200" y="1314360"/>
            <a:ext cx="8229600" cy="37515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ocess of action research allows educato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an issue or a problem relevant to their teac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determine what research question(s) they are trying to answ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an intervention designed to address the probl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collect and analyse data to determine if their intervention is having an effect, 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changes in their practice based on their f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6400800" y="5006880"/>
            <a:ext cx="2286000" cy="459720"/>
          </a:xfrm>
          <a:prstGeom prst="rect">
            <a:avLst/>
          </a:prstGeom>
          <a:solidFill>
            <a:srgbClr val="4597a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ww.tmer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odels: Looks like / Doesn’t look like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was the impact for teachers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27" name="KNAER_Trent_Jan11_2012_S06_Benefits of Professional Learning_21April12.mov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6A5-6B9B-40F0-8B9C-F589FDC3C5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Avoiding Pitfalls of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budget for release time = no p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planning needed just show up (carefully plan content, strategies, dynamics and trajector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drop in-between meeting/session 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PLC is separate from CIL-M “doing CIL-M” from Inqui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Growing too quick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o is a knowledgeable other? How do they facilitat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ach is a coach (no special training, and don’t need support themselv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INTEGRATING THIS KNOWLEDGE (CONSOLIDATE)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2970-6698-4415-8A65-B00F0D50FD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opportunities can you create for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lowing it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staining focus on a precise content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ing purposeful professional learning networks with resear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teachers as co-lear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0989-63EB-4838-97F4-05383D559D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Questions connected to key characteristic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6F8-B28B-4EA9-9F42-42DB3EB45F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Importan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(empowerment, ownership and constructive urge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learning (close attention to student work, listening and notic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ility (will and capacity to 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Let’s Analyse Math CAMPP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key characteristics of professional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it stro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it weak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be rev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Compelling Wh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forms stop short at the classroom door; all available evidence suggests that classroom practice has changed little in the past 100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wis, Perry &amp; Hurd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Deeper Look at Lesson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ucational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Five 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9000"/>
          </a:bodyPr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five characteristics should be considered by anyone charged with, or seeking to provide professional learning experiences for Ontario’s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 Coh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) Attentive to Adult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) Goal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 Evidence-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716360" y="59720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ommendations to the Partnership Table on Teacher Professional Learning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84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ross multiple studies, there is clear evidence that sustained, iterative, teacher-directed and collaborative models of professional learning support significant gains in teacher effic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Dr. Cathy Br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Science &amp; Technology Education Group (20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MATH KNOWLEDGE FOR TEACH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2AE-9D8E-487A-BD1A-7889FF958D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mpact of MKT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eveloping MK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Y THIS IS IMPORTAN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7-13T01:36:38Z</dcterms:modified>
  <cp:revision>16</cp:revision>
  <dc:subject/>
  <dc:title>&lt;Title&gt;</dc:title>
</cp:coreProperties>
</file>